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394-C173-44B4-93C2-CAEE42C9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942-7D81-4A3A-A944-B4B50F8C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066-11B4-4C46-9A4D-9E27094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79F-DA74-4F13-BA6E-41162A4C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79F-8999-4457-BC4E-27AF11B4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D63-9B54-4EBC-84E5-DAEE013A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1BB-7098-42C6-A5F7-47B8F9EF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B44-885A-40A8-91AB-FE11B83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490-0B3E-48CF-A4C9-0F69EACB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F81-B199-4525-8766-CF67821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F32-8E4D-4DC6-8A26-AA1158E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849-9B36-402A-A289-F6791A5D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9F2C-0487-4835-92AA-0E201FF0F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determin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429000"/>
            <a:ext cx="69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determining</a:t>
            </a:r>
            <a:r>
              <a:rPr b="1" lang="en-NZ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which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53006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that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557360"/>
            <a:ext cx="57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, that, these, those,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ll, each, every, both, few, one,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32:20Z</dcterms:modified>
  <cp:revision>26</cp:revision>
  <dc:subject/>
  <dc:title>Simile</dc:title>
</cp:coreProperties>
</file>